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4A68-D7FD-4DAD-BC28-63CB8AFE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6EF3-596C-4547-AC5E-E480260A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0251-7577-404E-A66E-E671671A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A9A9-2E06-44F3-AE4C-9BB684F4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6A02-AE11-4CC0-ACB0-89D3BF95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EBF1-C4FF-46EC-9A19-04691B5F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8A1F-B285-4DFB-93F5-8001BF09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21F3-6041-4045-A37F-6FFD8C5F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F477-5B51-4DC4-A481-E9753857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7A7F-88EC-4C03-BADE-61377BC3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E66E-852E-427A-B61E-EC6635CE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D636-768D-4E0D-91CD-A117FFDF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C0C8-AC36-4339-8A4E-69A7E254E36C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14 Chceš Krista milovať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š Krista milov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erne ísť za ním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š jeho meno vyznáv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restať s váhaní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z lásky hotov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neho žiť i mrieť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stálu vernosť Kristov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väčšej pocty ni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Božej vôle cie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j zreteľ upret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oznáš, že on sám ti šie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s láskou v ústre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vždycky zvíťazí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j dobrý doko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 jeho Slovu uverí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ri ňom zotrváš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8T08:25:09Z</dcterms:modified>
  <cp:revision>22</cp:revision>
  <dc:subject/>
  <dc:title>Je veľký náš Pán, on slávy je Kráľ Nech do všetkých strán  spev vrúcnych znie chvál.</dc:title>
</cp:coreProperties>
</file>